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5.jpeg" ContentType="image/jpe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C00F-BE8B-4BDE-9D66-E9CAB9905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7CD2-8EA2-4D85-B61E-882A3729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13512A-9BF8-42F4-9F2A-3DB79FDD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772B4D-D463-40DB-9E59-30A23FBB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BD4834-0F7B-4354-AE25-45371555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E072B6-018D-45F5-8C47-AB818225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F84F20-AEF1-4660-AA3F-7D7BDF71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37FC0A-BBBE-4D3A-8EA3-2C584617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7391BA-31A2-4F13-AD45-A261DE2C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9E389C-A6C7-4398-A815-B3D853D4C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2BC16B-828F-4BC3-88E7-1404F7692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4F17F-F251-49BF-AF4A-E7535B509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D98A-A7F0-40F8-B2D5-44B98E0D3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65FD5-A1A4-4848-BBAF-6FB29A55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78D85-A06F-438B-88F5-1F3BAACA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622E4C-4F45-4BEE-9246-3347167D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BF204-1677-4C8B-BF9A-5E7E7C34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785C9E-37F2-41CB-970E-BCC4F081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F2F35-7ACC-428E-97A1-B8A66541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D9CB7C-6203-4F11-B188-0EF76A18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E83AEA-37D7-4C2F-8C46-B9A90761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8963E5-3D6E-4C1C-BA57-1DDC83A2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E68E0-46F6-4952-B391-C5F29A186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A65B-A386-4C00-AAA9-1ABFBCB3B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1DE73-2F9A-4793-B6A6-4F01AE77C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EA273-934C-4869-8912-555186887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7AC4B-1275-4AB4-94B2-CCA1132B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2AE80-055A-4250-AD7F-D5DCE0A7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351A4-AB02-480C-833E-0C4246F4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E3B79-B1BC-40CD-B083-F3E0BA8C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BB479-72B4-486D-BCBA-E4F54A53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A0AD9-0F90-4376-9F54-5283AE6B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662CE-37B5-418A-A0D9-A3AF7C2C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7FD7E-E29C-48F5-9A53-A8E2512D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CDAD6-734A-41A2-91A8-A55535CB3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063391-868F-4281-BB96-8D929187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E0A14-6FEA-47EE-915E-C4D5C5EAA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09815-F113-4ABD-92D3-70F0B90F1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6EBCCC-06C6-429F-9F84-06019313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E4484-4CCE-4A88-BAC1-837C46BA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E5E7D3-9EDF-4612-80EF-6A560794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C57ADE-E03B-4C85-BAE7-79C17FF0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E36AAA-412E-4CA3-9025-8776B5A7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57F0A1-8CBE-4225-9E3C-BF2388C4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764418-2638-4999-BE6F-4D18676E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59CD3-5EB2-47C0-AB4D-15E5F1DD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9BA424-9713-47E6-88E0-F3DDD804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7B09AD-497F-4145-A527-05E2903A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3C292E-71B4-4488-BB57-8D7EE0F0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FB0D7A-306D-41D1-8455-2A592F28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43850F-0131-4C48-A7B0-BC5F8237E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968E9-5410-44BF-9A7F-02A2112D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5AEBB-18B7-4BF8-81BF-443B55D6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D4438-4D13-4DD8-AFEF-6C0D12D8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D885D-C844-4904-AFDB-190F146C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1D8C6-51F9-4708-B6D7-BE3A1392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C105-49E3-43AA-B089-109795F4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38E7A-D70C-45D8-8049-0688B734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875D2-1800-4B34-BF13-B584FAC2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BF999A-1BED-4076-9F65-259F2141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58B62-F9AD-473E-8407-E64500EDD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6DA65-FC5D-4427-ABFD-BB86DB304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B6721-7601-4D77-9714-19EA61A5B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4D401-2D0B-4152-A359-7A6D8569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75192-1F06-44F7-99D9-43894E72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371D5-24FD-47B6-B08B-82DA8CF0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372F7-FA55-4C00-BA59-3C371925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B949-3F4A-4204-AEC0-7ED53154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98F97-013C-43E3-9DF5-4416352A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4AFD9-1D66-4EAF-9440-A109B9CF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26071-5899-4672-9B20-00340702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F4E23-B2BE-4583-92E6-CCC1A670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51A3A-6C73-4445-9F45-F602A5A8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6337E-7084-446F-9205-828FE5769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8A5D0-F84E-4845-BD16-EC2DB28A7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9F48D7-2DF3-4F4D-8C70-4A4EF3A3B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057C1B-9998-4199-B10E-B3558630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FE56ED-C5E8-439B-B3CA-22DCF6BE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931E-F3C3-4AD2-97F2-EB9B0D92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352F64-B69E-47EB-8647-CA33B993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8C0FEA-36BF-41D7-BA56-A6A62D1B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5158B4-16AC-44BB-865E-DD4FCBCA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26E616-8C69-4891-BE81-881F96C7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28BE34-40FE-4467-9D95-C56B49F2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395CF8-681D-40BE-A882-DE0BE025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1CE09D-B064-4593-85DF-8D22913E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89F5C7-AACD-4FF9-BF49-07352513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64D808-0102-46A9-825D-050A65935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6CE97-8379-483A-A997-BD943AD0D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CFB9-1ABC-4C76-8D36-12C9557E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E72FA-3552-491C-8F09-27CD117A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A634A-EDC6-4A8E-840D-E5A92D96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B5D8D-5AB0-487B-8973-85148C29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C8A1C-6BA1-4187-B19A-35B952FB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E60D8-C3BD-4257-A803-77E6C06C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59E29-134F-4033-8558-9AB4B6F8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128B7-A0D3-4DE1-BEC7-A7C7C09E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6876D-5BA9-4890-ACA5-F7D6ABA2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2A911-61EC-4337-A4E6-57A08337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77B02-7107-4D20-97F6-553002127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D484-DD43-47E7-A2B1-B513DE7E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B673C-FA8F-4721-AB26-6D4F91E1C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543F4-C3DF-4500-A870-CEB268C4A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3CA05-17C6-4CA1-A359-4164983B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6A0D7-9574-4D04-9450-AC6C5573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D9D28-D9B9-46A4-BF83-EB52526A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A52D3-A5A3-4EC5-9E53-C9B15754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D5D88-6757-4387-A578-B3A1F0AD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680C3-9716-42A9-9E62-398D6066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A97E3-F019-46CE-8EF4-5C767251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54CB0-3FBC-476E-B2AB-8E4EC032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02FB-D5C2-4E8A-92AD-B9B1DD38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FC94C-6190-41D5-90D7-20C2B754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9A26F-8955-46B5-B7CA-45915B372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A7834-B9E9-4D0C-AB3A-8038B31D5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97233-286C-41AC-B308-80CEC3FD4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82289-3EFE-400F-9870-47546D30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70BE0-77CD-401C-9864-EF1E77D9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CD234-E402-4D0A-8E6D-6930B5D8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D4ED9-BEED-4F80-865B-9989946E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9C7D7-1271-49A1-9A19-5F4AAB38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C0922-5533-4D43-AD2C-2FDE6BFB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8140-D32E-475C-82A9-EF4F3530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86A75-1E3E-4719-8CD3-99C050DF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9AFAE-7D16-4437-B6A8-0E375DE6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4AAD6-062C-44C9-81FF-1E5A65C7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61B8D-F651-4E4C-8B70-3007CEA29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9A499-816C-459E-8387-F638A2096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2B4785-C6AB-42BB-8152-45AAC19FC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033570-1238-4277-99F9-ECE17CF9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C6D386-FC3A-4760-9935-2EF3925C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A3BD2D-16BF-4D2C-927C-7A4750A4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06E1EE-4CFC-4A93-AE63-5A1820F8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0E95-9310-4029-BB3F-6C4ACE5A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7F65BE-13F2-45C7-906E-4FAF9763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654659-D4D1-48E5-8DD6-6A22C898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0E1BA6-5D14-4634-9C9B-1326B19D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8419AE-D355-4A0F-B190-2E583F86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CD65BF-5056-45DB-9690-8E7E0CC1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1A9B97-0DE9-4517-BD36-B0D677A84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A92772-F475-4197-AB20-5C3A27179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515910-20AC-4909-8CDD-C6EFECA56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AA8B41-0138-438D-AE19-6E06D319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09487A-34C1-43C1-918A-65C042F7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2F9A-51AA-463B-A3B2-3A257A7D280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95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A5CD-ECBB-4ADD-BF40-02F2DADC39F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3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47CD-D197-4EC7-AD58-7FBD449E5AF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83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B282-5308-49EE-B844-1D9AA41A8DB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90C8-296A-466F-B19D-DA9786AABCA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92C8-7D36-45D9-B974-8888BC6611B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9192-7883-40FF-942D-DB657F6316A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52F5-0274-43D8-84B8-3316CF5B80E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0EA3-1FCC-4A82-B1E9-F54D8F1F0D3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1DC3-D007-47D1-A723-BBB1C416EF5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7332-2EF0-49FD-9938-F54FFE0549F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250C-1E82-42B9-A9E3-296EF46B32A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0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hyperlink" Target="http://www.firstworldwar.com/posters/canada.htm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hyperlink" Target="file:///seven_tricks.html" TargetMode="External"/><Relationship Id="rId4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Rectangle 4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9637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5" descr="pp_can_06"/>
          <p:cNvPicPr/>
          <p:nvPr/>
        </p:nvPicPr>
        <p:blipFill>
          <a:blip r:embed="rId3"/>
          <a:stretch/>
        </p:blipFill>
        <p:spPr>
          <a:xfrm>
            <a:off x="2700360" y="1341360"/>
            <a:ext cx="33987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10" descr="pp_uk_06"/>
          <p:cNvPicPr/>
          <p:nvPr/>
        </p:nvPicPr>
        <p:blipFill>
          <a:blip r:embed="rId2"/>
          <a:stretch/>
        </p:blipFill>
        <p:spPr>
          <a:xfrm>
            <a:off x="2556000" y="189000"/>
            <a:ext cx="4464000" cy="6630840"/>
          </a:xfrm>
          <a:prstGeom prst="rect">
            <a:avLst/>
          </a:prstGeom>
          <a:ln w="0">
            <a:noFill/>
          </a:ln>
        </p:spPr>
      </p:pic>
      <p:sp>
        <p:nvSpPr>
          <p:cNvPr id="550" name="TextBox 8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Box 7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2" name="Picture 8" descr="pp_can_04"/>
          <p:cNvPicPr/>
          <p:nvPr/>
        </p:nvPicPr>
        <p:blipFill>
          <a:blip r:embed="rId2"/>
          <a:stretch/>
        </p:blipFill>
        <p:spPr>
          <a:xfrm>
            <a:off x="2556000" y="333360"/>
            <a:ext cx="4032000" cy="61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9" descr="pp_uk_07"/>
          <p:cNvPicPr/>
          <p:nvPr/>
        </p:nvPicPr>
        <p:blipFill>
          <a:blip r:embed="rId2"/>
          <a:stretch/>
        </p:blipFill>
        <p:spPr>
          <a:xfrm>
            <a:off x="2340000" y="252360"/>
            <a:ext cx="4176720" cy="6505560"/>
          </a:xfrm>
          <a:prstGeom prst="rect">
            <a:avLst/>
          </a:prstGeom>
          <a:ln w="0">
            <a:noFill/>
          </a:ln>
        </p:spPr>
      </p:pic>
      <p:sp>
        <p:nvSpPr>
          <p:cNvPr id="554" name="TextBox 6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Box 7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6" name="Picture 13" descr="http://www.google.ca/url?source=imgres&amp;ct=img&amp;q=http://s3.hubimg.com/u/1116470_f520.jpg&amp;sa=X&amp;ei=Qb1nTfTEIcq4tgeyxYXoAw&amp;ved=0CAQQ8wc&amp;usg=AFQjCNEG6Jrnz35ujutLMMvfQM8bzsjvtw"/>
          <p:cNvPicPr/>
          <p:nvPr/>
        </p:nvPicPr>
        <p:blipFill>
          <a:blip r:embed="rId2"/>
          <a:stretch/>
        </p:blipFill>
        <p:spPr>
          <a:xfrm>
            <a:off x="2700360" y="316080"/>
            <a:ext cx="4248000" cy="65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5" descr="pp_uk_08"/>
          <p:cNvPicPr/>
          <p:nvPr/>
        </p:nvPicPr>
        <p:blipFill>
          <a:blip r:embed="rId2"/>
          <a:stretch/>
        </p:blipFill>
        <p:spPr>
          <a:xfrm>
            <a:off x="2916360" y="333360"/>
            <a:ext cx="4103640" cy="6291360"/>
          </a:xfrm>
          <a:prstGeom prst="rect">
            <a:avLst/>
          </a:prstGeom>
          <a:ln w="0">
            <a:noFill/>
          </a:ln>
        </p:spPr>
      </p:pic>
      <p:sp>
        <p:nvSpPr>
          <p:cNvPr id="558" name="TextBox 6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12" descr="pp_uk_09"/>
          <p:cNvPicPr/>
          <p:nvPr/>
        </p:nvPicPr>
        <p:blipFill>
          <a:blip r:embed="rId2"/>
          <a:stretch/>
        </p:blipFill>
        <p:spPr>
          <a:xfrm>
            <a:off x="2916360" y="260280"/>
            <a:ext cx="4248000" cy="6330960"/>
          </a:xfrm>
          <a:prstGeom prst="rect">
            <a:avLst/>
          </a:prstGeom>
          <a:ln w="0">
            <a:noFill/>
          </a:ln>
        </p:spPr>
      </p:pic>
      <p:sp>
        <p:nvSpPr>
          <p:cNvPr id="560" name="TextBox 5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http://www.google.ca/url?source=imgres&amp;ct=img&amp;q=http://www.underconsideration.com/speakup/archives/SU_war-2.jpg&amp;sa=X&amp;ei=EL5nTYnKAYWUtwfp8vjnAw&amp;ved=0CAQQ8wc4LQ&amp;usg=AFQjCNHdqX1i7_gVeU7KFKlsTkt7JcypsQ"/>
          <p:cNvPicPr/>
          <p:nvPr/>
        </p:nvPicPr>
        <p:blipFill>
          <a:blip r:embed="rId2"/>
          <a:stretch/>
        </p:blipFill>
        <p:spPr>
          <a:xfrm>
            <a:off x="1835280" y="1413000"/>
            <a:ext cx="6756120" cy="5025960"/>
          </a:xfrm>
          <a:prstGeom prst="rect">
            <a:avLst/>
          </a:prstGeom>
          <a:ln w="0">
            <a:noFill/>
          </a:ln>
        </p:spPr>
      </p:pic>
      <p:sp>
        <p:nvSpPr>
          <p:cNvPr id="562" name="TextBox 2"/>
          <p:cNvSpPr/>
          <p:nvPr/>
        </p:nvSpPr>
        <p:spPr>
          <a:xfrm>
            <a:off x="684360" y="692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4" descr="http://www.google.ca/url?source=imgres&amp;ct=img&amp;q=http://www.warandgender.com/5_fig010.jpg&amp;sa=X&amp;ei=0c9nTYGGMcrAtgey7ZzoAw&amp;ved=0CAQQ8wc4Ww&amp;usg=AFQjCNFqzvs4DXBZdshOaoztOPLHd8mvEQ"/>
          <p:cNvPicPr/>
          <p:nvPr/>
        </p:nvPicPr>
        <p:blipFill>
          <a:blip r:embed="rId2"/>
          <a:stretch/>
        </p:blipFill>
        <p:spPr>
          <a:xfrm>
            <a:off x="2556000" y="333360"/>
            <a:ext cx="4181400" cy="6203880"/>
          </a:xfrm>
          <a:prstGeom prst="rect">
            <a:avLst/>
          </a:prstGeom>
          <a:ln w="0">
            <a:noFill/>
          </a:ln>
        </p:spPr>
      </p:pic>
      <p:sp>
        <p:nvSpPr>
          <p:cNvPr id="564" name="TextBox 2"/>
          <p:cNvSpPr/>
          <p:nvPr/>
        </p:nvSpPr>
        <p:spPr>
          <a:xfrm>
            <a:off x="684360" y="692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http://www.google.ca/url?source=imgres&amp;ct=img&amp;q=http://www.pinetreeweb.com/bp-ww1-poster.jpg&amp;sa=X&amp;ei=FNBnTaKFJIWXtwfPzqjoAw&amp;ved=0CAQQ8wc4Ww&amp;usg=AFQjCNE3K16jozMNvu4NStfP2ZqZN7lg5g"/>
          <p:cNvPicPr/>
          <p:nvPr/>
        </p:nvPicPr>
        <p:blipFill>
          <a:blip r:embed="rId2"/>
          <a:stretch/>
        </p:blipFill>
        <p:spPr>
          <a:xfrm>
            <a:off x="2771640" y="223920"/>
            <a:ext cx="4297320" cy="6634080"/>
          </a:xfrm>
          <a:prstGeom prst="rect">
            <a:avLst/>
          </a:prstGeom>
          <a:ln w="0">
            <a:noFill/>
          </a:ln>
        </p:spPr>
      </p:pic>
      <p:sp>
        <p:nvSpPr>
          <p:cNvPr id="566" name="TextBox 2"/>
          <p:cNvSpPr/>
          <p:nvPr/>
        </p:nvSpPr>
        <p:spPr>
          <a:xfrm>
            <a:off x="684360" y="692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http://www.google.ca/url?source=imgres&amp;ct=img&amp;q=http://www.infobarrel.com/media/image/1385.jpg&amp;sa=X&amp;ei=Is9nTbeKKIS5tgevr6DoAw&amp;ved=0CAQQ8wc&amp;usg=AFQjCNHOqOEV_AP6pJPQBLhdvUTbFCibTA"/>
          <p:cNvPicPr/>
          <p:nvPr/>
        </p:nvPicPr>
        <p:blipFill>
          <a:blip r:embed="rId2"/>
          <a:stretch/>
        </p:blipFill>
        <p:spPr>
          <a:xfrm>
            <a:off x="1908000" y="0"/>
            <a:ext cx="4535640" cy="6719760"/>
          </a:xfrm>
          <a:prstGeom prst="rect">
            <a:avLst/>
          </a:prstGeom>
          <a:ln w="0">
            <a:noFill/>
          </a:ln>
        </p:spPr>
      </p:pic>
      <p:sp>
        <p:nvSpPr>
          <p:cNvPr id="568" name="TextBox 2"/>
          <p:cNvSpPr/>
          <p:nvPr/>
        </p:nvSpPr>
        <p:spPr>
          <a:xfrm>
            <a:off x="684360" y="692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Rectangle 4" descr=""/>
          <p:cNvPicPr/>
          <p:nvPr/>
        </p:nvPicPr>
        <p:blipFill>
          <a:blip r:embed="rId2"/>
          <a:stretch/>
        </p:blipFill>
        <p:spPr>
          <a:xfrm>
            <a:off x="450720" y="285840"/>
            <a:ext cx="8242560" cy="143352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5840" indent="-2858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ckwell"/>
              </a:rPr>
              <a:t>Propaganda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is a specific type of message presentation aimed at serving an agenda. At its root, the denotation of propaganda is 'to propagate (actively spread) a philosophy or point of view'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e most common use of the term (historically) is in political contexts; in particular to refer to certain efforts sponsored by governments or political groups. (Wikipedia)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30" name="Picture 9" descr="pp_can_09"/>
          <p:cNvPicPr/>
          <p:nvPr/>
        </p:nvPicPr>
        <p:blipFill>
          <a:blip r:embed="rId3"/>
          <a:stretch/>
        </p:blipFill>
        <p:spPr>
          <a:xfrm>
            <a:off x="5289480" y="1905120"/>
            <a:ext cx="2755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Title 1" descr=""/>
          <p:cNvPicPr/>
          <p:nvPr/>
        </p:nvPicPr>
        <p:blipFill>
          <a:blip r:embed="rId2"/>
          <a:stretch/>
        </p:blipFill>
        <p:spPr>
          <a:xfrm>
            <a:off x="457200" y="378000"/>
            <a:ext cx="8242200" cy="224928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250560" y="3068640"/>
            <a:ext cx="84978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orld War I Posters- Canada </a:t>
            </a:r>
            <a:br>
              <a:rPr sz="3200"/>
            </a:br>
            <a:r>
              <a:rPr b="0" lang="en-US" sz="3200" spc="-1" strike="noStrike" u="sng">
                <a:solidFill>
                  <a:srgbClr val="db5353"/>
                </a:solidFill>
                <a:uFillTx/>
                <a:latin typeface="Rockwell"/>
                <a:hlinkClick r:id="rId3"/>
              </a:rPr>
              <a:t>http://www.firstworldwar.com/posters/canada.ht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Rectangle 4" descr=""/>
          <p:cNvPicPr/>
          <p:nvPr/>
        </p:nvPicPr>
        <p:blipFill>
          <a:blip r:embed="rId2"/>
          <a:stretch/>
        </p:blipFill>
        <p:spPr>
          <a:xfrm>
            <a:off x="450720" y="285840"/>
            <a:ext cx="8242560" cy="11649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Each of the nations which participated in World War One from 1914-18 used propaganda posters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They used posters to: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justify their involvement to their own populace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As a means of recruiting men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A way to raise money and resources to sustain the military campaign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o urge conservation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33" name="Picture 10" descr="pp_uk_33"/>
          <p:cNvPicPr/>
          <p:nvPr/>
        </p:nvPicPr>
        <p:blipFill>
          <a:blip r:embed="rId3"/>
          <a:stretch/>
        </p:blipFill>
        <p:spPr>
          <a:xfrm>
            <a:off x="5148360" y="1484280"/>
            <a:ext cx="334620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Rectangle 2" descr=""/>
          <p:cNvPicPr/>
          <p:nvPr/>
        </p:nvPicPr>
        <p:blipFill>
          <a:blip r:embed="rId2"/>
          <a:stretch/>
        </p:blipFill>
        <p:spPr>
          <a:xfrm>
            <a:off x="450720" y="285840"/>
            <a:ext cx="8242560" cy="1164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elevision had not yet been invented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Not everyone owned or had access to a radio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Posters were the most effective means of getting a message acros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36" name="Picture 16" descr="http://www.google.ca/url?source=imgres&amp;ct=img&amp;q=http://rlv.zcache.com/ww1_collectors_card_1914_canada_propaganda_postcard-p239228030672924246trdg_400.jpg&amp;sa=X&amp;ei=ub1nTb7ECIHHtgej1pnoAw&amp;ved=0CAQQ8wc&amp;usg=AFQjCNHqVicEdsZbF8RHg_MN0xkrsCMTRg"/>
          <p:cNvPicPr/>
          <p:nvPr/>
        </p:nvPicPr>
        <p:blipFill>
          <a:blip r:embed="rId3"/>
          <a:stretch/>
        </p:blipFill>
        <p:spPr>
          <a:xfrm>
            <a:off x="4788000" y="177336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Rectangle 4" descr=""/>
          <p:cNvPicPr/>
          <p:nvPr/>
        </p:nvPicPr>
        <p:blipFill>
          <a:blip r:embed="rId2"/>
          <a:stretch/>
        </p:blipFill>
        <p:spPr>
          <a:xfrm>
            <a:off x="450720" y="285840"/>
            <a:ext cx="8242560" cy="143352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4211640" y="1905120"/>
            <a:ext cx="468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82960" indent="-282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Quite often propaganda is connected with negative emotion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82960" indent="-282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During the Great War the governments needed money for the war effort so they focused their efforts on posters aimed at raising money from citizens for the war effor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9" name="AutoShape 11"/>
          <p:cNvSpPr/>
          <p:nvPr/>
        </p:nvSpPr>
        <p:spPr>
          <a:xfrm>
            <a:off x="77760" y="-1257480"/>
            <a:ext cx="17431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0" name="Picture 13" descr="http://www.google.ca/url?source=imgres&amp;ct=img&amp;q=http://www.ww1westernfront.gov.au/notre-dame/images/awm-artv00468.jpg&amp;sa=X&amp;ei=HL1nTfi4GJG3twfg-ojoAw&amp;ved=0CAQQ8wc&amp;usg=AFQjCNH1W85C4FmIQqqyLWn6M4D7BeumJA"/>
          <p:cNvPicPr/>
          <p:nvPr/>
        </p:nvPicPr>
        <p:blipFill>
          <a:blip r:embed="rId3"/>
          <a:stretch/>
        </p:blipFill>
        <p:spPr>
          <a:xfrm>
            <a:off x="971640" y="1773360"/>
            <a:ext cx="273672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Rectangle 2" descr=""/>
          <p:cNvPicPr/>
          <p:nvPr/>
        </p:nvPicPr>
        <p:blipFill>
          <a:blip r:embed="rId2"/>
          <a:stretch/>
        </p:blipFill>
        <p:spPr>
          <a:xfrm>
            <a:off x="450720" y="285840"/>
            <a:ext cx="8242560" cy="140328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db5353"/>
                </a:solidFill>
                <a:uFillTx/>
                <a:latin typeface="Rockwell"/>
                <a:hlinkClick r:id="rId3"/>
              </a:rPr>
              <a:t>Seven Tricks </a:t>
            </a:r>
            <a:r>
              <a:rPr b="0" lang="en-US" sz="3400" spc="-1" strike="noStrike" u="sng">
                <a:solidFill>
                  <a:srgbClr val="ffffff"/>
                </a:solidFill>
                <a:uFillTx/>
                <a:latin typeface="Rockwell"/>
              </a:rPr>
              <a:t>(link)</a:t>
            </a:r>
            <a:br>
              <a:rPr sz="3400"/>
            </a:br>
            <a:br>
              <a:rPr sz="3400"/>
            </a:br>
            <a:r>
              <a:rPr b="0" lang="en-US" sz="3400" spc="-1" strike="noStrike" u="sng">
                <a:solidFill>
                  <a:srgbClr val="ffffff"/>
                </a:solidFill>
                <a:uFillTx/>
                <a:latin typeface="Rockwel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Rockwell"/>
              </a:rPr>
              <a:t>Activity:  In small groups, examine the following posters and identify the ‘tricks’ used in the posters.  Each group will present their conclusions to the class.</a:t>
            </a:r>
            <a:endParaRPr b="0" lang="en-US" sz="3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9" descr="pp_uk_02"/>
          <p:cNvPicPr/>
          <p:nvPr/>
        </p:nvPicPr>
        <p:blipFill>
          <a:blip r:embed="rId2"/>
          <a:stretch/>
        </p:blipFill>
        <p:spPr>
          <a:xfrm>
            <a:off x="2195640" y="189000"/>
            <a:ext cx="4608360" cy="6541920"/>
          </a:xfrm>
          <a:prstGeom prst="rect">
            <a:avLst/>
          </a:prstGeom>
          <a:ln w="0">
            <a:noFill/>
          </a:ln>
        </p:spPr>
      </p:pic>
      <p:sp>
        <p:nvSpPr>
          <p:cNvPr id="544" name="TextBox 8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3" descr="pp_uk_01"/>
          <p:cNvPicPr/>
          <p:nvPr/>
        </p:nvPicPr>
        <p:blipFill>
          <a:blip r:embed="rId2"/>
          <a:stretch/>
        </p:blipFill>
        <p:spPr>
          <a:xfrm>
            <a:off x="2050920" y="115920"/>
            <a:ext cx="4465800" cy="6584760"/>
          </a:xfrm>
          <a:prstGeom prst="rect">
            <a:avLst/>
          </a:prstGeom>
          <a:ln w="0">
            <a:noFill/>
          </a:ln>
        </p:spPr>
      </p:pic>
      <p:sp>
        <p:nvSpPr>
          <p:cNvPr id="546" name="TextBox 5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9" descr="pp_can_09"/>
          <p:cNvPicPr/>
          <p:nvPr/>
        </p:nvPicPr>
        <p:blipFill>
          <a:blip r:embed="rId2"/>
          <a:stretch/>
        </p:blipFill>
        <p:spPr>
          <a:xfrm>
            <a:off x="2340000" y="291960"/>
            <a:ext cx="4176720" cy="6232680"/>
          </a:xfrm>
          <a:prstGeom prst="rect">
            <a:avLst/>
          </a:prstGeom>
          <a:ln w="0">
            <a:noFill/>
          </a:ln>
        </p:spPr>
      </p:pic>
      <p:sp>
        <p:nvSpPr>
          <p:cNvPr id="548" name="TextBox 5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22:08:58Z</dcterms:created>
  <dc:creator>Rob Cotey</dc:creator>
  <dc:description/>
  <dc:language>en-US</dc:language>
  <cp:lastModifiedBy>Craig Rush</cp:lastModifiedBy>
  <dcterms:modified xsi:type="dcterms:W3CDTF">2011-11-14T00:07:32Z</dcterms:modified>
  <cp:revision>16</cp:revision>
  <dc:subject/>
  <dc:title>Propaganda in World War One</dc:title>
</cp:coreProperties>
</file>